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media/image11.jpeg" ContentType="image/jpe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160C5-DF0F-42AB-9ABB-09C04114A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8AF0A-0613-4336-A28E-921CC2938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5"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4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07C3722-9063-4EAE-8DC1-3583DC7B261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9A5769B-0E2E-4C0A-B895-ADBFEB74112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E09A755-C51E-4974-838B-C0ADE7A77A2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244FC72-1606-4F35-88F7-687BF7E8E11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4"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6"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5CD3EA4-7954-4CCC-BB41-D6836A094C7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0"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0F5FCD3-9249-4E3B-B075-EF882E0A9CC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62"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3"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5B2558D-BEAE-4D25-98D7-0A43F5AA2BF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6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6"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8"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166C710-342E-4A7B-A4A3-B261289A8D8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70"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1"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2"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3"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4"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5"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14D99A1-FB41-45A9-B7C4-B184EB43A30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E14B79F-F7E8-4A38-A551-FD91D69441A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0FDB3-237E-4A53-89AF-8986E0B59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3"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C24C1E2-C391-4495-8F22-1AB59491035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5"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1D29144-620E-4C5F-AE13-62BA6F4CE4A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7"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88"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F0E6DC5-960A-47A7-83D9-1F3D28F5678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98AF915-7F49-4717-9830-383F7EF378C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2BEF725-CDC0-48A8-A0D0-6944F4182D8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9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3"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4"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C90FA20-2E1B-485C-B5DF-A31B6D3557C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96"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8"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83C9A98-D7E5-4603-98AC-1534EC28176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2"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E392F23-77EE-4986-BEB2-279B343034F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4"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5"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AC27A04-8339-41C8-A7B3-409ABDB5D57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7"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8"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9"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0"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F14E0304-59BA-49AC-A973-6C415772FF9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8"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A6396-F2C9-4E56-91CA-C39F17DCB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12"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3"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4"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5"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6"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7"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39E9175-48E5-4C94-B909-DD3FCAB2A33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E1A4623-633B-4282-B908-5A17EE6F3DB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5"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F36FA57-9C1E-4880-AF83-2E7159E8F9A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7"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0824E79-966A-4B22-81AF-971A8CC59C7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0"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AFDB6BD-837E-482F-9E0F-0018201D75F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013171C-0117-43A9-8A2F-0CC62F38340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F24E86C-6ABC-48B6-BCC5-AEA022213B0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3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5"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6"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EC5D488-0563-45D5-9527-01610DF790B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38"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0"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9259B90-8C59-4C8E-9DC2-425F2BF8E41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4"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7429EFA-8B42-43CB-A0CF-8CF4F8908F1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6"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7"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A848C6B-6660-4FBF-9D56-E342197B4A3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9"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1"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2"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71292493-6D5F-498F-83A0-97080CAD802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54"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5"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6"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7"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8"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9"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CCAF063-4E84-43C3-98CD-F3A848F1079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5A63CFBC-32E2-4030-A833-CCA75B81DA2B}"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6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BD5E5B4-9227-4EA2-A3CE-EA6B9071193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6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09F0C8D-1E24-4EF9-BA53-ED6B4F0E9BE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0646709-E153-47B7-8FF9-1EC748794C6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AA0DCEE-B918-4E65-8720-FCE9FFA5CA2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E2AEF14-6C8C-4F6C-B1DC-610901D77C7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C0338D9-1637-428B-B25A-7E58FB9C7FE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D9A15AE-4634-4A90-949B-3D8A3D6EB8C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E937160-FDAB-43BB-8518-06A0FFA9F25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ED0AC31-04EC-4D36-A69B-6557578AB73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82E312A-0C69-4C5D-9355-FE8A5F18019E}"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0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0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3B430551-F24F-4B31-9FA7-63F92D4F2A37}"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F37C9CA0-59A0-465F-A851-A39662BD1F8F}"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0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F79903DC-174A-4F82-BC97-FD9E08692CEB}"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4E44D4E4-32EC-40DE-9778-A40D0DAF86EB}"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1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F10F2698-1BB7-49F6-BB9A-7685A7919CB0}"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D015EF50-D24E-4F9B-903F-A70607BC35B7}"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7310EBBC-7469-4795-B613-891A2E3A33E0}"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1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A44F0C1-635B-4198-9AAC-337CD18382EE}"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2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D0CB7735-CFC2-47A8-9D0A-0AEB9954FBE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2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1009025-B733-42C4-9443-4C703B86CE0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5C63FD81-4D7B-4EE2-898C-2ABE78AE4B15}"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621665B7-5983-4E63-9908-8CFBECEE0059}"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2AAEAEAB-6BD7-457D-8EA1-D68021C4A32C}"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5DFE2-31CB-4248-9039-DF1EBEB92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7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7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8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8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4C1CDD3-4F81-4597-BA8C-15831ABD052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8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AFB1FA7-CFA1-45F9-A0EF-C454D4DDB96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77559C9-C0A6-4445-AB7E-31E035F5026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8CB0CA8-BD27-42D5-B7AA-911E92D0A14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E82867D-5D82-47BA-A17C-41616F22785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8"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6BA86-E4C7-4F45-8EC8-8F62149F5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6B92ED7-B198-459E-B6F5-AD616A852BA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34267A3-F8CA-4670-A66E-060FE8793A7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E07B7E3-D3D4-4D19-AF9C-2A46FEF69B0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C4DFB3C-3684-49A5-88CC-658E8AC5E00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D6D6898-BC48-4298-86A3-BCA2F5BEC8E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7313EBB-B118-4EF4-8238-E953F96A178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FC5E7BC-A9D3-43F8-9B1E-D5C6AE6F74C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CD8CC78-3BEC-432E-BD06-585FF5BBAE0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1"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CFE0BF6-E611-4750-83DB-E3EC3B07F88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3"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178764B-8465-417D-99DA-C755D9B3A6E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DB60F-A2AB-48B6-B881-E9DAB93AC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5"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3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942FB7C-21C5-4439-8E62-A84B67024C9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A38D77A-326E-41E5-91C4-B2AFFD52502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666AD69-B67A-430A-8C3C-0BED9E96D2E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895A6A3-F0D3-44BB-9D5A-A0AFD43BD46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4"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6"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0048723-1170-4753-820E-62DF441956A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0"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CF57735-6D06-4017-BBBF-2F4ADC4DA5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2"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3"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CD20A76-DEE0-4C62-997E-B3B8CCC78C6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6"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8"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0BC3AC9-151F-4784-B049-D0BB473994B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60"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1"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2"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3"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4"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5"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2F7B044-57E5-466D-9F68-83ABF946958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2076775-1961-48BE-B81A-6399DE6F84E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A93BD-7D7E-4D0B-95EE-3714B2E0A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3"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4E2BF11-C08B-4207-AEC1-0E4F303A2AC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5"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8A3C4B7-D5FD-4E32-8C5B-26384FC06F4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7"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78"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9FEC4E8-6363-42CE-B8F1-5746AF78BC5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B579568-771D-4F49-8016-B42E821CEEF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1A67D20-A53D-49C7-8FDB-82309F92F0B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8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3"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4"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C3B031D-27B1-4519-A7B3-FF5BB20113A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86"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8"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6FA44B0-ABA2-428C-A5D4-F5F3C144852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2"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5A83AD4-6B87-4448-A8A8-BC3DECE8E0D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4"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5"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6975337-F7FA-423C-947E-94399E251E4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7"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8"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9"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0"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F717D62-10FF-4754-BA16-069FDEFC3AD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8CE8F-F3D6-4A42-A6CC-68329F28C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02"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3"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4"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5"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6"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7"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7D681B7-2C66-4DD5-8779-C7F73C6C120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3204255-B196-43F7-B3A3-07EFFC4DC26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5"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E3E5B5E-5137-4B82-A146-9D9117EEE85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7"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5A02DF7-6035-4DA9-8B60-9020D5ABEC6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0"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C6251CC-9DBF-4493-99B2-4255D5C0713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2A32D85-7C25-4BD0-9263-4492ECFD20D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D0955DC-C2E3-4BA0-8AD4-765498F44ED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2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5"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6"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0C00913-2606-4639-9E6F-0DE24A50434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28"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0"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F33B267-6178-4D2A-9EC1-768D17FAF8B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4"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775D3F6-48F2-447B-8C64-DCC4A3BC3FB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9FA29-D660-4B3F-B62F-B826EE588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6"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7"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4AEBD52-AD3F-4D4A-953E-C854D2E6A31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9"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1"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2"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3E119FD-6D16-4948-A233-53E5016DA9E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44"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5"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6"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7"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8"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9"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1290839-728A-4974-8FC3-936FBE8908B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40385E3-DAA5-4933-9A74-A25C109EA2B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5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F3137F3-3C75-453D-B9A9-4C07F7C018D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5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F22185D-BBBE-4530-8394-9D82163E2DD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6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D7FB6CE-AA75-4CCB-A4E0-AED139FA069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964406D-379F-4B06-AC90-D1726FF328D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3AE2DE6-18E5-43E6-A8FD-9A0316444C2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6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7FB2F25-8AD5-4774-8A56-6341EFA32D7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1"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EF5F8-A1CE-476F-9F88-B8B242CE4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6DDAC92-E74E-4C6B-8178-FA494F85303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3E8460A-6364-4AC6-8D2F-FD77D737C37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C68A49A-C432-4D8D-8A68-AF67B3E6041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8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27A5D0C-E6DD-4386-8A4F-A48F35020C0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8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9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9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EB69B29-5B3F-46B8-A138-0BC007BFA2E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912C4DD-C495-48B9-8AEB-43048F2E3EA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9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1BD414A-75B8-416F-AA94-8DC750920B6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4CFECE8-E8F1-423E-9BE7-9F9FCD784DD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0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72014BC-D5A9-4DCB-BF68-F5D0FC8C99A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BDF9193-724B-461F-9A9D-C25B99F8A1B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5"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43F29-CDC0-43E0-88BB-75230BB78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4A4DC88-F430-482D-8DEC-1C68E08CC17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0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C3749F0-4DA3-44FD-84A2-4E2680FD01B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1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9F524A6-713E-411A-B199-1737CA54D4C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1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1BD4F1B-5771-4019-AEB4-9662740DB45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4CF6E1B-E18F-40A6-A191-C4818AF8C30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BCF5170-476C-4C0B-8094-E3105BD9D57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9BA7844-7A35-44BD-A62F-E70F3EF6088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0541BE2-14F3-473F-992D-BD1B04B2A04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1"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5775D7C-78B8-48E1-B175-1608E5E58BC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3"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6A5E4AD-A07E-4356-B3C5-E21D93B953D3}"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 name="PlaceHolder 3"/>
          <p:cNvSpPr>
            <a:spLocks noGrp="1"/>
          </p:cNvSpPr>
          <p:nvPr>
            <p:ph type="dt" idx="1"/>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
        <p:nvSpPr>
          <p:cNvPr id="4" name="PlaceHolder 5"/>
          <p:cNvSpPr>
            <a:spLocks noGrp="1"/>
          </p:cNvSpPr>
          <p:nvPr>
            <p:ph type="sldNum" idx="3"/>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6AADB-7D61-4CAA-8AEA-95D751F2C7F7}"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6" name="Picture 6" descr="Interior-Overlay.png"/>
          <p:cNvPicPr/>
          <p:nvPr/>
        </p:nvPicPr>
        <p:blipFill>
          <a:blip r:embed="rId3"/>
          <a:stretch/>
        </p:blipFill>
        <p:spPr>
          <a:xfrm>
            <a:off x="0" y="0"/>
            <a:ext cx="9144000" cy="6858000"/>
          </a:xfrm>
          <a:prstGeom prst="rect">
            <a:avLst/>
          </a:prstGeom>
          <a:ln w="0">
            <a:noFill/>
          </a:ln>
        </p:spPr>
      </p:pic>
      <p:sp>
        <p:nvSpPr>
          <p:cNvPr id="37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378"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379" name="PlaceHolder 3"/>
          <p:cNvSpPr>
            <a:spLocks noGrp="1"/>
          </p:cNvSpPr>
          <p:nvPr>
            <p:ph type="dt" idx="27"/>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380" name="PlaceHolder 4"/>
          <p:cNvSpPr>
            <a:spLocks noGrp="1"/>
          </p:cNvSpPr>
          <p:nvPr>
            <p:ph type="ftr" idx="28"/>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
        <p:nvSpPr>
          <p:cNvPr id="381" name="PlaceHolder 5"/>
          <p:cNvSpPr>
            <a:spLocks noGrp="1"/>
          </p:cNvSpPr>
          <p:nvPr>
            <p:ph type="sldNum" idx="29"/>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10A1F-7D62-46A2-BF37-8819DD4F4DE3}"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8" name="Picture 6" descr="Interior-Overlay.png"/>
          <p:cNvPicPr/>
          <p:nvPr/>
        </p:nvPicPr>
        <p:blipFill>
          <a:blip r:embed="rId3"/>
          <a:stretch/>
        </p:blipFill>
        <p:spPr>
          <a:xfrm>
            <a:off x="0" y="0"/>
            <a:ext cx="9144000" cy="6858000"/>
          </a:xfrm>
          <a:prstGeom prst="rect">
            <a:avLst/>
          </a:prstGeom>
          <a:ln w="0">
            <a:noFill/>
          </a:ln>
        </p:spPr>
      </p:pic>
      <p:sp>
        <p:nvSpPr>
          <p:cNvPr id="41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20"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21" name="PlaceHolder 3"/>
          <p:cNvSpPr>
            <a:spLocks noGrp="1"/>
          </p:cNvSpPr>
          <p:nvPr>
            <p:ph type="dt" idx="30"/>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422" name="PlaceHolder 4"/>
          <p:cNvSpPr>
            <a:spLocks noGrp="1"/>
          </p:cNvSpPr>
          <p:nvPr>
            <p:ph type="ftr" idx="31"/>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
        <p:nvSpPr>
          <p:cNvPr id="423" name="PlaceHolder 5"/>
          <p:cNvSpPr>
            <a:spLocks noGrp="1"/>
          </p:cNvSpPr>
          <p:nvPr>
            <p:ph type="sldNum" idx="32"/>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B0D16-73D2-4046-9E3F-7E8E8430605F}"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0" name="Picture 6" descr="Interior-Overlay.png"/>
          <p:cNvPicPr/>
          <p:nvPr/>
        </p:nvPicPr>
        <p:blipFill>
          <a:blip r:embed="rId3"/>
          <a:stretch/>
        </p:blipFill>
        <p:spPr>
          <a:xfrm>
            <a:off x="0" y="0"/>
            <a:ext cx="9144000" cy="6858000"/>
          </a:xfrm>
          <a:prstGeom prst="rect">
            <a:avLst/>
          </a:prstGeom>
          <a:ln w="0">
            <a:noFill/>
          </a:ln>
        </p:spPr>
      </p:pic>
      <p:sp>
        <p:nvSpPr>
          <p:cNvPr id="46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62"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63" name="PlaceHolder 3"/>
          <p:cNvSpPr>
            <a:spLocks noGrp="1"/>
          </p:cNvSpPr>
          <p:nvPr>
            <p:ph type="dt" idx="33"/>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464" name="PlaceHolder 4"/>
          <p:cNvSpPr>
            <a:spLocks noGrp="1"/>
          </p:cNvSpPr>
          <p:nvPr>
            <p:ph type="ftr" idx="34"/>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
        <p:nvSpPr>
          <p:cNvPr id="465" name="PlaceHolder 5"/>
          <p:cNvSpPr>
            <a:spLocks noGrp="1"/>
          </p:cNvSpPr>
          <p:nvPr>
            <p:ph type="sldNum" idx="35"/>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0959F-7D76-4588-B94F-C4C1C8AEFDA1}"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02" name="Picture 6" descr="Interior-Overlay.png"/>
          <p:cNvPicPr/>
          <p:nvPr/>
        </p:nvPicPr>
        <p:blipFill>
          <a:blip r:embed="rId3"/>
          <a:stretch/>
        </p:blipFill>
        <p:spPr>
          <a:xfrm>
            <a:off x="0" y="0"/>
            <a:ext cx="9144000" cy="6858000"/>
          </a:xfrm>
          <a:prstGeom prst="rect">
            <a:avLst/>
          </a:prstGeom>
          <a:ln w="0">
            <a:noFill/>
          </a:ln>
        </p:spPr>
      </p:pic>
      <p:sp>
        <p:nvSpPr>
          <p:cNvPr id="50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50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505" name="PlaceHolder 3"/>
          <p:cNvSpPr>
            <a:spLocks noGrp="1"/>
          </p:cNvSpPr>
          <p:nvPr>
            <p:ph type="dt" idx="36"/>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506" name="PlaceHolder 4"/>
          <p:cNvSpPr>
            <a:spLocks noGrp="1"/>
          </p:cNvSpPr>
          <p:nvPr>
            <p:ph type="ftr" idx="37"/>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
        <p:nvSpPr>
          <p:cNvPr id="507" name="PlaceHolder 5"/>
          <p:cNvSpPr>
            <a:spLocks noGrp="1"/>
          </p:cNvSpPr>
          <p:nvPr>
            <p:ph type="sldNum" idx="38"/>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6B75E-490B-4B4F-99E5-47C2784C8A01}"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Cover-TextureForeGround.jpg"/>
          <p:cNvPicPr/>
          <p:nvPr/>
        </p:nvPicPr>
        <p:blipFill>
          <a:blip r:embed="rId3"/>
          <a:stretch/>
        </p:blipFill>
        <p:spPr>
          <a:xfrm>
            <a:off x="0" y="0"/>
            <a:ext cx="9144000" cy="6858000"/>
          </a:xfrm>
          <a:prstGeom prst="rect">
            <a:avLst/>
          </a:prstGeom>
          <a:ln w="0">
            <a:noFill/>
          </a:ln>
        </p:spPr>
      </p:pic>
      <p:sp>
        <p:nvSpPr>
          <p:cNvPr id="4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3"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4" name="PlaceHolder 3"/>
          <p:cNvSpPr>
            <a:spLocks noGrp="1"/>
          </p:cNvSpPr>
          <p:nvPr>
            <p:ph type="dt" idx="4"/>
          </p:nvPr>
        </p:nvSpPr>
        <p:spPr>
          <a:xfrm>
            <a:off x="5987880" y="6221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1295280" y="6221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6" descr="Interior-Overlay.png"/>
          <p:cNvPicPr/>
          <p:nvPr/>
        </p:nvPicPr>
        <p:blipFill>
          <a:blip r:embed="rId3"/>
          <a:stretch/>
        </p:blipFill>
        <p:spPr>
          <a:xfrm>
            <a:off x="0" y="0"/>
            <a:ext cx="9144000" cy="6858000"/>
          </a:xfrm>
          <a:prstGeom prst="rect">
            <a:avLst/>
          </a:prstGeom>
          <a:ln w="0">
            <a:noFill/>
          </a:ln>
        </p:spPr>
      </p:pic>
      <p:sp>
        <p:nvSpPr>
          <p:cNvPr id="8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8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85" name="PlaceHolder 3"/>
          <p:cNvSpPr>
            <a:spLocks noGrp="1"/>
          </p:cNvSpPr>
          <p:nvPr>
            <p:ph type="dt" idx="6"/>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86" name="PlaceHolder 4"/>
          <p:cNvSpPr>
            <a:spLocks noGrp="1"/>
          </p:cNvSpPr>
          <p:nvPr>
            <p:ph type="ftr" idx="7"/>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
        <p:nvSpPr>
          <p:cNvPr id="87" name="PlaceHolder 5"/>
          <p:cNvSpPr>
            <a:spLocks noGrp="1"/>
          </p:cNvSpPr>
          <p:nvPr>
            <p:ph type="sldNum" idx="8"/>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55FB9-2132-4E37-AF10-1A58679763BA}"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4" name="Picture 6" descr="Interior-Overlay.png"/>
          <p:cNvPicPr/>
          <p:nvPr/>
        </p:nvPicPr>
        <p:blipFill>
          <a:blip r:embed="rId3"/>
          <a:stretch/>
        </p:blipFill>
        <p:spPr>
          <a:xfrm>
            <a:off x="0" y="0"/>
            <a:ext cx="9144000" cy="6858000"/>
          </a:xfrm>
          <a:prstGeom prst="rect">
            <a:avLst/>
          </a:prstGeom>
          <a:ln w="0">
            <a:noFill/>
          </a:ln>
        </p:spPr>
      </p:pic>
      <p:sp>
        <p:nvSpPr>
          <p:cNvPr id="12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26"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127" name="PlaceHolder 3"/>
          <p:cNvSpPr>
            <a:spLocks noGrp="1"/>
          </p:cNvSpPr>
          <p:nvPr>
            <p:ph type="dt" idx="9"/>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128" name="PlaceHolder 4"/>
          <p:cNvSpPr>
            <a:spLocks noGrp="1"/>
          </p:cNvSpPr>
          <p:nvPr>
            <p:ph type="ftr" idx="10"/>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
        <p:nvSpPr>
          <p:cNvPr id="129" name="PlaceHolder 5"/>
          <p:cNvSpPr>
            <a:spLocks noGrp="1"/>
          </p:cNvSpPr>
          <p:nvPr>
            <p:ph type="sldNum" idx="11"/>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A2C7A-AE67-404E-97FB-6E26A22F6664}"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6" name="Picture 6" descr="Interior-Overlay.png"/>
          <p:cNvPicPr/>
          <p:nvPr/>
        </p:nvPicPr>
        <p:blipFill>
          <a:blip r:embed="rId3"/>
          <a:stretch/>
        </p:blipFill>
        <p:spPr>
          <a:xfrm>
            <a:off x="0" y="0"/>
            <a:ext cx="9144000" cy="6858000"/>
          </a:xfrm>
          <a:prstGeom prst="rect">
            <a:avLst/>
          </a:prstGeom>
          <a:ln w="0">
            <a:noFill/>
          </a:ln>
        </p:spPr>
      </p:pic>
      <p:sp>
        <p:nvSpPr>
          <p:cNvPr id="16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68"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169" name="PlaceHolder 3"/>
          <p:cNvSpPr>
            <a:spLocks noGrp="1"/>
          </p:cNvSpPr>
          <p:nvPr>
            <p:ph type="dt" idx="12"/>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3"/>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
        <p:nvSpPr>
          <p:cNvPr id="171" name="PlaceHolder 5"/>
          <p:cNvSpPr>
            <a:spLocks noGrp="1"/>
          </p:cNvSpPr>
          <p:nvPr>
            <p:ph type="sldNum" idx="14"/>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8D21B-47A6-4E92-9CE1-56CC907D56E6}"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8" name="Picture 6" descr="Interior-Overlay.png"/>
          <p:cNvPicPr/>
          <p:nvPr/>
        </p:nvPicPr>
        <p:blipFill>
          <a:blip r:embed="rId3"/>
          <a:stretch/>
        </p:blipFill>
        <p:spPr>
          <a:xfrm>
            <a:off x="0" y="0"/>
            <a:ext cx="9144000" cy="6858000"/>
          </a:xfrm>
          <a:prstGeom prst="rect">
            <a:avLst/>
          </a:prstGeom>
          <a:ln w="0">
            <a:noFill/>
          </a:ln>
        </p:spPr>
      </p:pic>
      <p:sp>
        <p:nvSpPr>
          <p:cNvPr id="20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10"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11" name="PlaceHolder 3"/>
          <p:cNvSpPr>
            <a:spLocks noGrp="1"/>
          </p:cNvSpPr>
          <p:nvPr>
            <p:ph type="dt" idx="15"/>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6"/>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
        <p:nvSpPr>
          <p:cNvPr id="213" name="PlaceHolder 5"/>
          <p:cNvSpPr>
            <a:spLocks noGrp="1"/>
          </p:cNvSpPr>
          <p:nvPr>
            <p:ph type="sldNum" idx="17"/>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7DAB6-D0AE-4329-A336-DB2A285CBC0B}"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0" name="Picture 6" descr="Interior-Overlay.png"/>
          <p:cNvPicPr/>
          <p:nvPr/>
        </p:nvPicPr>
        <p:blipFill>
          <a:blip r:embed="rId3"/>
          <a:stretch/>
        </p:blipFill>
        <p:spPr>
          <a:xfrm>
            <a:off x="0" y="0"/>
            <a:ext cx="9144000" cy="6858000"/>
          </a:xfrm>
          <a:prstGeom prst="rect">
            <a:avLst/>
          </a:prstGeom>
          <a:ln w="0">
            <a:noFill/>
          </a:ln>
        </p:spPr>
      </p:pic>
      <p:sp>
        <p:nvSpPr>
          <p:cNvPr id="25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52"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53" name="PlaceHolder 3"/>
          <p:cNvSpPr>
            <a:spLocks noGrp="1"/>
          </p:cNvSpPr>
          <p:nvPr>
            <p:ph type="dt" idx="18"/>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254" name="PlaceHolder 4"/>
          <p:cNvSpPr>
            <a:spLocks noGrp="1"/>
          </p:cNvSpPr>
          <p:nvPr>
            <p:ph type="ftr" idx="19"/>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
        <p:nvSpPr>
          <p:cNvPr id="255" name="PlaceHolder 5"/>
          <p:cNvSpPr>
            <a:spLocks noGrp="1"/>
          </p:cNvSpPr>
          <p:nvPr>
            <p:ph type="sldNum" idx="20"/>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EDA14-97C8-4927-BE42-873DD993335B}"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2" name="Picture 6" descr="Interior-Overlay.png"/>
          <p:cNvPicPr/>
          <p:nvPr/>
        </p:nvPicPr>
        <p:blipFill>
          <a:blip r:embed="rId3"/>
          <a:stretch/>
        </p:blipFill>
        <p:spPr>
          <a:xfrm>
            <a:off x="0" y="0"/>
            <a:ext cx="9144000" cy="6858000"/>
          </a:xfrm>
          <a:prstGeom prst="rect">
            <a:avLst/>
          </a:prstGeom>
          <a:ln w="0">
            <a:noFill/>
          </a:ln>
        </p:spPr>
      </p:pic>
      <p:sp>
        <p:nvSpPr>
          <p:cNvPr id="29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9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95" name="PlaceHolder 3"/>
          <p:cNvSpPr>
            <a:spLocks noGrp="1"/>
          </p:cNvSpPr>
          <p:nvPr>
            <p:ph type="dt" idx="21"/>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296" name="PlaceHolder 4"/>
          <p:cNvSpPr>
            <a:spLocks noGrp="1"/>
          </p:cNvSpPr>
          <p:nvPr>
            <p:ph type="ftr" idx="22"/>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
        <p:nvSpPr>
          <p:cNvPr id="297" name="PlaceHolder 5"/>
          <p:cNvSpPr>
            <a:spLocks noGrp="1"/>
          </p:cNvSpPr>
          <p:nvPr>
            <p:ph type="sldNum" idx="23"/>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17A16-2C78-47C3-A414-DE53D6B84257}"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4" name="Picture 6" descr="Interior-Overlay.png"/>
          <p:cNvPicPr/>
          <p:nvPr/>
        </p:nvPicPr>
        <p:blipFill>
          <a:blip r:embed="rId3"/>
          <a:stretch/>
        </p:blipFill>
        <p:spPr>
          <a:xfrm>
            <a:off x="0" y="0"/>
            <a:ext cx="9144000" cy="6858000"/>
          </a:xfrm>
          <a:prstGeom prst="rect">
            <a:avLst/>
          </a:prstGeom>
          <a:ln w="0">
            <a:noFill/>
          </a:ln>
        </p:spPr>
      </p:pic>
      <p:sp>
        <p:nvSpPr>
          <p:cNvPr id="33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336"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337" name="PlaceHolder 3"/>
          <p:cNvSpPr>
            <a:spLocks noGrp="1"/>
          </p:cNvSpPr>
          <p:nvPr>
            <p:ph type="dt" idx="24"/>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338" name="PlaceHolder 4"/>
          <p:cNvSpPr>
            <a:spLocks noGrp="1"/>
          </p:cNvSpPr>
          <p:nvPr>
            <p:ph type="ftr" idx="25"/>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
        <p:nvSpPr>
          <p:cNvPr id="339" name="PlaceHolder 5"/>
          <p:cNvSpPr>
            <a:spLocks noGrp="1"/>
          </p:cNvSpPr>
          <p:nvPr>
            <p:ph type="sldNum" idx="26"/>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5A21F-409B-4365-8ED1-81143646AC25}"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youtube.com/watch?v=D8q-sTsOu3M&amp;feature=related" TargetMode="External"/><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youtube.com/watch?v=kr7djGY1fhA" TargetMode="Externa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www.youtube.com/watch?v=_krbxXawoAU&amp;feature=related" TargetMode="External"/><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Title 1" descr=""/>
          <p:cNvPicPr/>
          <p:nvPr/>
        </p:nvPicPr>
        <p:blipFill>
          <a:blip r:embed="rId1"/>
          <a:stretch/>
        </p:blipFill>
        <p:spPr>
          <a:xfrm>
            <a:off x="1596960" y="384120"/>
            <a:ext cx="7096320" cy="1206720"/>
          </a:xfrm>
          <a:prstGeom prst="rect">
            <a:avLst/>
          </a:prstGeom>
          <a:ln w="0">
            <a:noFill/>
          </a:ln>
        </p:spPr>
      </p:pic>
      <p:pic>
        <p:nvPicPr>
          <p:cNvPr id="545" name="Subtitle 2" descr=""/>
          <p:cNvPicPr/>
          <p:nvPr/>
        </p:nvPicPr>
        <p:blipFill>
          <a:blip r:embed="rId2"/>
          <a:stretch/>
        </p:blipFill>
        <p:spPr>
          <a:xfrm>
            <a:off x="1158840" y="3638520"/>
            <a:ext cx="7089840" cy="1762200"/>
          </a:xfrm>
          <a:prstGeom prst="rect">
            <a:avLst/>
          </a:prstGeom>
          <a:ln w="0">
            <a:noFill/>
          </a:ln>
        </p:spPr>
      </p:pic>
      <p:pic>
        <p:nvPicPr>
          <p:cNvPr id="546" name="Picture 3" descr="Screen Shot 2011-12-03 at 11.16.03 PM.png"/>
          <p:cNvPicPr/>
          <p:nvPr/>
        </p:nvPicPr>
        <p:blipFill>
          <a:blip r:embed="rId3"/>
          <a:stretch/>
        </p:blipFill>
        <p:spPr>
          <a:xfrm>
            <a:off x="1355760" y="4286160"/>
            <a:ext cx="3505320" cy="2222640"/>
          </a:xfrm>
          <a:prstGeom prst="rect">
            <a:avLst/>
          </a:prstGeom>
          <a:ln w="0">
            <a:noFill/>
          </a:ln>
        </p:spPr>
      </p:pic>
      <p:pic>
        <p:nvPicPr>
          <p:cNvPr id="547" name="Picture 5" descr="http://t0.gstatic.com/images?q=tbn:ANd9GcTOYa6Ihg6dEVmRxEQCG4qu6PxLVGDdTfs2oWwuDlhBGOUkIwNSOA"/>
          <p:cNvPicPr/>
          <p:nvPr/>
        </p:nvPicPr>
        <p:blipFill>
          <a:blip r:embed="rId4"/>
          <a:stretch/>
        </p:blipFill>
        <p:spPr>
          <a:xfrm>
            <a:off x="5386320" y="4286160"/>
            <a:ext cx="3301920" cy="2222640"/>
          </a:xfrm>
          <a:prstGeom prst="rect">
            <a:avLst/>
          </a:prstGeom>
          <a:ln w="0">
            <a:noFill/>
          </a:ln>
        </p:spPr>
      </p:pic>
      <p:sp>
        <p:nvSpPr>
          <p:cNvPr id="548" name="TextBox 3"/>
          <p:cNvSpPr/>
          <p:nvPr/>
        </p:nvSpPr>
        <p:spPr>
          <a:xfrm>
            <a:off x="2556000" y="199548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pic>
        <p:nvPicPr>
          <p:cNvPr id="549" name="06 Paradise By the Dashboard Light.m4a" descr=""/>
          <p:cNvPicPr/>
          <p:nvPr/>
        </p:nvPicPr>
        <p:blipFill>
          <a:blip r:embed="rId5"/>
          <a:stretch/>
        </p:blipFill>
        <p:spPr>
          <a:xfrm>
            <a:off x="1195560" y="1589040"/>
            <a:ext cx="812520" cy="81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Intro to the Automobile </a:t>
            </a:r>
            <a:endParaRPr b="1" lang="en-US" sz="4800" spc="-1" strike="noStrike">
              <a:solidFill>
                <a:srgbClr val="404040"/>
              </a:solidFill>
              <a:latin typeface="Candara"/>
            </a:endParaRPr>
          </a:p>
        </p:txBody>
      </p:sp>
      <p:sp>
        <p:nvSpPr>
          <p:cNvPr id="551" name=""/>
          <p:cNvSpPr txBox="1"/>
          <p:nvPr/>
        </p:nvSpPr>
        <p:spPr>
          <a:xfrm>
            <a:off x="1088640" y="1801800"/>
            <a:ext cx="7272360" cy="4324320"/>
          </a:xfrm>
          <a:prstGeom prst="rect">
            <a:avLst/>
          </a:prstGeom>
          <a:noFill/>
          <a:ln w="0">
            <a:noFill/>
          </a:ln>
        </p:spPr>
        <p:txBody>
          <a:bodyPr anchor="t">
            <a:normAutofit fontScale="97000"/>
          </a:bodyPr>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Brief description of the history of automobiles and automobile safety talk about who developed the first automobile, as we know it today.</a:t>
            </a:r>
            <a:endParaRPr b="0" lang="en-US" sz="1800" spc="-1" strike="noStrike">
              <a:solidFill>
                <a:srgbClr val="404040"/>
              </a:solidFill>
              <a:latin typeface="Candara"/>
            </a:endParaRPr>
          </a:p>
          <a:p>
            <a:pPr lvl="2" marL="834480" indent="-27396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1886:  Karl Benz designs, creates and patents the first gasoline engine in a car.   Powered by an internal combustion three-wheeled engine and a chassis. (Germany)</a:t>
            </a:r>
            <a:endParaRPr b="0" lang="en-US" sz="1800" spc="-1" strike="noStrike">
              <a:solidFill>
                <a:srgbClr val="404040"/>
              </a:solidFill>
              <a:latin typeface="Candara"/>
            </a:endParaRPr>
          </a:p>
          <a:p>
            <a:pPr lvl="2" marL="834480" indent="-27396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1886: Gottlieb Wilhelm Daimler created first four wheeled automobile with chassis and gas engine. (Germany)</a:t>
            </a:r>
            <a:endParaRPr b="0" lang="en-US" sz="1800" spc="-1" strike="noStrike">
              <a:solidFill>
                <a:srgbClr val="404040"/>
              </a:solidFill>
              <a:latin typeface="Candara"/>
            </a:endParaRPr>
          </a:p>
          <a:p>
            <a:pPr lvl="2" marL="834480" indent="-27396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1886-1895:  George Baldwin Selden patents the first gasoline/combined combustion engine with a chassis.  Patent # 549,160.  He never manufactures this design but is paid royalties on the patent. (United States) </a:t>
            </a:r>
            <a:endParaRPr b="0" lang="en-US" sz="1800" spc="-1" strike="noStrike">
              <a:solidFill>
                <a:srgbClr val="404040"/>
              </a:solidFill>
              <a:latin typeface="Candara"/>
            </a:endParaRPr>
          </a:p>
          <a:p>
            <a:pPr lvl="2" marL="834480" indent="-27396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1893:  Duryea Brothers setup the first American automobile manufacturing company.</a:t>
            </a:r>
            <a:endParaRPr b="0" lang="en-US" sz="1800" spc="-1" strike="noStrike">
              <a:solidFill>
                <a:srgbClr val="404040"/>
              </a:solidFill>
              <a:latin typeface="Candara"/>
            </a:endParaRPr>
          </a:p>
          <a:p>
            <a:pPr lvl="2" marL="834480" indent="-27396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ndara"/>
            </a:endParaRPr>
          </a:p>
          <a:p>
            <a:pPr lvl="2" marL="834480" indent="-27396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ndara"/>
            </a:endParaRPr>
          </a:p>
          <a:p>
            <a:pPr lvl="1" marL="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ndara"/>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Henry Ford &amp; his Impact</a:t>
            </a:r>
            <a:endParaRPr b="1" lang="en-US" sz="4800" spc="-1" strike="noStrike">
              <a:solidFill>
                <a:srgbClr val="404040"/>
              </a:solidFill>
              <a:latin typeface="Candara"/>
            </a:endParaRPr>
          </a:p>
        </p:txBody>
      </p:sp>
      <p:sp>
        <p:nvSpPr>
          <p:cNvPr id="553" name=""/>
          <p:cNvSpPr txBox="1"/>
          <p:nvPr/>
        </p:nvSpPr>
        <p:spPr>
          <a:xfrm>
            <a:off x="952200" y="1801800"/>
            <a:ext cx="7272360" cy="4324320"/>
          </a:xfrm>
          <a:prstGeom prst="rect">
            <a:avLst/>
          </a:prstGeom>
          <a:noFill/>
          <a:ln w="0">
            <a:noFill/>
          </a:ln>
        </p:spPr>
        <p:txBody>
          <a:bodyPr anchor="t">
            <a:normAutofit/>
          </a:bodyPr>
          <a:p>
            <a:pPr lvl="1"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ndara"/>
              </a:rPr>
              <a:t>The impact of Henry Ford’s production innovations and what it meant in society and the number of cars on the road.</a:t>
            </a:r>
            <a:endParaRPr b="0" lang="en-US" sz="1600" spc="-1" strike="noStrike">
              <a:solidFill>
                <a:srgbClr val="404040"/>
              </a:solidFill>
              <a:latin typeface="Candara"/>
            </a:endParaRPr>
          </a:p>
          <a:p>
            <a:pPr lvl="1" marL="282600" indent="-28260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ndara"/>
              </a:rPr>
              <a:t>Henry Ford starting developing his own models of automobiles from 1896 on.  In 1908 he developed the Model T, which had some innovations that other car manufacturers quickly copied, such as an enclosed chassis and riding compartment and the steering wheel on the left hand side.  By 1920 the majority of Americans learned to drive on the Model T.</a:t>
            </a:r>
            <a:endParaRPr b="0" lang="en-US" sz="1600" spc="-1" strike="noStrike">
              <a:solidFill>
                <a:srgbClr val="404040"/>
              </a:solidFill>
              <a:latin typeface="Candara"/>
            </a:endParaRPr>
          </a:p>
          <a:p>
            <a:pPr lvl="1" marL="282600" indent="-28260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ndara"/>
              </a:rPr>
              <a:t>In 1913 ford introduced the moving assembly belts into his plant, which enabled an enormous increase in production.  This made the price and availability of the vehicle feasible for most people in the United States of America.  By 1918 half of all the vehicles in the United States were Model T’s.</a:t>
            </a:r>
            <a:endParaRPr b="0" lang="en-US" sz="1600" spc="-1" strike="noStrike">
              <a:solidFill>
                <a:srgbClr val="404040"/>
              </a:solidFill>
              <a:latin typeface="Candara"/>
            </a:endParaRPr>
          </a:p>
          <a:p>
            <a:pPr lvl="1" marL="282600" indent="-28260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ndara"/>
            </a:endParaRPr>
          </a:p>
        </p:txBody>
      </p:sp>
      <p:pic>
        <p:nvPicPr>
          <p:cNvPr id="554" name="Picture 3" descr="Screen Shot 2011-12-03 at 11.20.58 PM.png"/>
          <p:cNvPicPr/>
          <p:nvPr/>
        </p:nvPicPr>
        <p:blipFill>
          <a:blip r:embed="rId1"/>
          <a:stretch/>
        </p:blipFill>
        <p:spPr>
          <a:xfrm>
            <a:off x="635040" y="4883040"/>
            <a:ext cx="2590920" cy="1841760"/>
          </a:xfrm>
          <a:prstGeom prst="rect">
            <a:avLst/>
          </a:prstGeom>
          <a:ln w="0">
            <a:noFill/>
          </a:ln>
        </p:spPr>
      </p:pic>
      <p:pic>
        <p:nvPicPr>
          <p:cNvPr id="555" name="Picture 4" descr="Screen Shot 2011-12-03 at 11.23.48 PM.png"/>
          <p:cNvPicPr/>
          <p:nvPr/>
        </p:nvPicPr>
        <p:blipFill>
          <a:blip r:embed="rId2"/>
          <a:stretch/>
        </p:blipFill>
        <p:spPr>
          <a:xfrm>
            <a:off x="6365880" y="4629240"/>
            <a:ext cx="2430360" cy="20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360080" y="725040"/>
            <a:ext cx="7272360" cy="692280"/>
          </a:xfrm>
          <a:prstGeom prst="rect">
            <a:avLst/>
          </a:prstGeom>
          <a:noFill/>
          <a:ln w="0">
            <a:noFill/>
          </a:ln>
        </p:spPr>
        <p:txBody>
          <a:bodyPr anchor="ctr">
            <a:noAutofit/>
          </a:bodyPr>
          <a:p>
            <a:pPr marL="343080"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ndara"/>
              </a:rPr>
              <a:t>History of Automobile Safety</a:t>
            </a:r>
            <a:br>
              <a:rPr sz="4000"/>
            </a:br>
            <a:endParaRPr b="1" lang="en-US" sz="4000" spc="-1" strike="noStrike">
              <a:solidFill>
                <a:srgbClr val="404040"/>
              </a:solidFill>
              <a:latin typeface="Candara"/>
            </a:endParaRPr>
          </a:p>
        </p:txBody>
      </p:sp>
      <p:sp>
        <p:nvSpPr>
          <p:cNvPr id="557" name=""/>
          <p:cNvSpPr txBox="1"/>
          <p:nvPr/>
        </p:nvSpPr>
        <p:spPr>
          <a:xfrm>
            <a:off x="1088640" y="1801800"/>
            <a:ext cx="7272360" cy="4324320"/>
          </a:xfrm>
          <a:prstGeom prst="rect">
            <a:avLst/>
          </a:prstGeom>
          <a:noFill/>
          <a:ln w="0">
            <a:noFill/>
          </a:ln>
        </p:spPr>
        <p:txBody>
          <a:bodyPr anchor="t">
            <a:normAutofit/>
          </a:bodyPr>
          <a:p>
            <a:pPr lvl="1"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ndara"/>
              </a:rPr>
              <a:t>Although safety belts had been used in some crude fashion or another, they really started gaining ground and recognition in the 1930’s.  Dr. Claire Straith and Dr. C.J. Strickland brought the idea of safer road conditions with the use of seat belts and padded dashboards through the Automobile Safety League of America.</a:t>
            </a:r>
            <a:endParaRPr b="0" lang="en-US" sz="1600" spc="-1" strike="noStrike">
              <a:solidFill>
                <a:srgbClr val="404040"/>
              </a:solidFill>
              <a:latin typeface="Candara"/>
            </a:endParaRPr>
          </a:p>
          <a:p>
            <a:pPr lvl="1"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ndara"/>
              </a:rPr>
              <a:t>In 1937 Chrysler, Dodge and others started improving the safety of their vehicles such as smooth dashboards with recessed controls and heavily padded front seats for rear passengers.</a:t>
            </a:r>
            <a:endParaRPr b="0" lang="en-US" sz="1600" spc="-1" strike="noStrike">
              <a:solidFill>
                <a:srgbClr val="404040"/>
              </a:solidFill>
              <a:latin typeface="Candara"/>
            </a:endParaRPr>
          </a:p>
          <a:p>
            <a:pPr lvl="1"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ndara"/>
              </a:rPr>
              <a:t>In 1966 the United States of America established the Department of Transportation (DOT) and shortly thereafter established the National Transportation Board (NTB) in 1967.</a:t>
            </a:r>
            <a:endParaRPr b="0" lang="en-US" sz="1600" spc="-1" strike="noStrike">
              <a:solidFill>
                <a:srgbClr val="404040"/>
              </a:solidFill>
              <a:latin typeface="Candara"/>
            </a:endParaRPr>
          </a:p>
          <a:p>
            <a:pPr lvl="1"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ndara"/>
              </a:rPr>
              <a:t>Statistics of injuries and fatalities going down as safety becomes more and more of a priority.</a:t>
            </a:r>
            <a:endParaRPr b="0" lang="en-US" sz="1600" spc="-1" strike="noStrike">
              <a:solidFill>
                <a:srgbClr val="404040"/>
              </a:solidFill>
              <a:latin typeface="Candara"/>
            </a:endParaRPr>
          </a:p>
          <a:p>
            <a:pPr lvl="1"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ndara"/>
            </a:endParaRPr>
          </a:p>
        </p:txBody>
      </p:sp>
      <p:pic>
        <p:nvPicPr>
          <p:cNvPr id="558" name="Picture 4" descr="http://t2.gstatic.com/images?q=tbn:ANd9GcS32wo_DbnoDU9xq7fLqzD8aXFvACIBGUpPRBpa60S8skH3qfpq"/>
          <p:cNvPicPr/>
          <p:nvPr/>
        </p:nvPicPr>
        <p:blipFill>
          <a:blip r:embed="rId1"/>
          <a:stretch/>
        </p:blipFill>
        <p:spPr>
          <a:xfrm>
            <a:off x="7415280" y="5526000"/>
            <a:ext cx="1600200" cy="120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Activity #1</a:t>
            </a:r>
            <a:endParaRPr b="1" lang="en-US" sz="4800" spc="-1" strike="noStrike">
              <a:solidFill>
                <a:srgbClr val="404040"/>
              </a:solidFill>
              <a:latin typeface="Candara"/>
            </a:endParaRPr>
          </a:p>
        </p:txBody>
      </p:sp>
      <p:sp>
        <p:nvSpPr>
          <p:cNvPr id="560" name=""/>
          <p:cNvSpPr txBox="1"/>
          <p:nvPr/>
        </p:nvSpPr>
        <p:spPr>
          <a:xfrm>
            <a:off x="1088640" y="1801800"/>
            <a:ext cx="7272360" cy="4324320"/>
          </a:xfrm>
          <a:prstGeom prst="rect">
            <a:avLst/>
          </a:prstGeom>
          <a:noFill/>
          <a:ln w="0">
            <a:noFill/>
          </a:ln>
        </p:spPr>
        <p:txBody>
          <a:bodyPr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Please fill out the Driver Questionaire about previous driving infractions whether they be accidents or tickets.</a:t>
            </a:r>
            <a:endParaRPr b="0" lang="en-US" sz="2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Educational video on road sign safety.</a:t>
            </a:r>
            <a:endParaRPr b="0" lang="en-US" sz="2400" spc="-1" strike="noStrike">
              <a:solidFill>
                <a:srgbClr val="404040"/>
              </a:solidFill>
              <a:latin typeface="Candara"/>
            </a:endParaRPr>
          </a:p>
          <a:p>
            <a:pPr lvl="1" marL="577800" indent="-29520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dd7e0e"/>
                </a:solidFill>
                <a:uFillTx/>
                <a:latin typeface="Candara"/>
                <a:hlinkClick r:id="rId1"/>
              </a:rPr>
              <a:t>http://www.youtube.com/watch?v=D8q-sTsOu3M&amp;feature=related</a:t>
            </a:r>
            <a:r>
              <a:rPr b="0" lang="en-US" sz="2200" spc="-1" strike="noStrike">
                <a:solidFill>
                  <a:srgbClr val="404040"/>
                </a:solidFill>
                <a:latin typeface="Candara"/>
              </a:rPr>
              <a:t> </a:t>
            </a:r>
            <a:endParaRPr b="0" lang="en-US" sz="2200" spc="-1" strike="noStrike">
              <a:solidFill>
                <a:srgbClr val="404040"/>
              </a:solidFill>
              <a:latin typeface="Candara"/>
            </a:endParaRPr>
          </a:p>
          <a:p>
            <a:pPr lvl="1" marL="577800" indent="-29520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ndara"/>
            </a:endParaRPr>
          </a:p>
          <a:p>
            <a:pPr lvl="1" marL="577800" indent="-29520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Activity #2</a:t>
            </a:r>
            <a:r>
              <a:rPr b="1" lang="en-US" sz="4800" spc="-1" strike="noStrike">
                <a:solidFill>
                  <a:srgbClr val="404040"/>
                </a:solidFill>
                <a:latin typeface="Candara"/>
              </a:rPr>
              <a:t>	</a:t>
            </a:r>
            <a:endParaRPr b="1" lang="en-US" sz="4800" spc="-1" strike="noStrike">
              <a:solidFill>
                <a:srgbClr val="404040"/>
              </a:solidFill>
              <a:latin typeface="Candara"/>
            </a:endParaRPr>
          </a:p>
        </p:txBody>
      </p:sp>
      <p:sp>
        <p:nvSpPr>
          <p:cNvPr id="562" name=""/>
          <p:cNvSpPr txBox="1"/>
          <p:nvPr/>
        </p:nvSpPr>
        <p:spPr>
          <a:xfrm>
            <a:off x="1088640" y="1801800"/>
            <a:ext cx="7272360" cy="4324320"/>
          </a:xfrm>
          <a:prstGeom prst="rect">
            <a:avLst/>
          </a:prstGeom>
          <a:noFill/>
          <a:ln w="0">
            <a:noFill/>
          </a:ln>
        </p:spPr>
        <p:txBody>
          <a:bodyPr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tudents will diagram what the dashboard on their personal vehicles look like.</a:t>
            </a:r>
            <a:endParaRPr b="0" lang="en-US" sz="2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d7e0e"/>
                </a:solidFill>
                <a:uFillTx/>
                <a:latin typeface="Candara"/>
                <a:hlinkClick r:id="rId1"/>
              </a:rPr>
              <a:t>http://www.youtube.com/watch?v=kr7djGY1fhA</a:t>
            </a:r>
            <a:endParaRPr b="0" lang="en-US" sz="2400" spc="-1" strike="noStrike">
              <a:solidFill>
                <a:srgbClr val="404040"/>
              </a:solidFill>
              <a:latin typeface="Candara"/>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osing Video</a:t>
            </a:r>
            <a:endParaRPr b="1" lang="en-US" sz="4800" spc="-1" strike="noStrike">
              <a:solidFill>
                <a:srgbClr val="404040"/>
              </a:solidFill>
              <a:latin typeface="Candara"/>
            </a:endParaRPr>
          </a:p>
        </p:txBody>
      </p:sp>
      <p:sp>
        <p:nvSpPr>
          <p:cNvPr id="564" name=""/>
          <p:cNvSpPr txBox="1"/>
          <p:nvPr/>
        </p:nvSpPr>
        <p:spPr>
          <a:xfrm>
            <a:off x="1088640" y="1801800"/>
            <a:ext cx="7272360" cy="4324320"/>
          </a:xfrm>
          <a:prstGeom prst="rect">
            <a:avLst/>
          </a:prstGeom>
          <a:noFill/>
          <a:ln w="0">
            <a:noFill/>
          </a:ln>
        </p:spPr>
        <p:txBody>
          <a:bodyPr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Examples of what can happen when the rules of the road are not followed.</a:t>
            </a:r>
            <a:endParaRPr b="0" lang="en-US" sz="2400" spc="-1" strike="noStrike">
              <a:solidFill>
                <a:srgbClr val="404040"/>
              </a:solidFill>
              <a:latin typeface="Candara"/>
            </a:endParaRPr>
          </a:p>
          <a:p>
            <a:pPr lvl="1" marL="577800" indent="-29520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dd7e0e"/>
                </a:solidFill>
                <a:uFillTx/>
                <a:latin typeface="Candara"/>
                <a:hlinkClick r:id="rId1"/>
              </a:rPr>
              <a:t>http://www.youtube.com/watch?v=_krbxXawoAU&amp;feature=related</a:t>
            </a:r>
            <a:endParaRPr b="0" lang="en-US" sz="2200" spc="-1" strike="noStrike">
              <a:solidFill>
                <a:srgbClr val="404040"/>
              </a:solidFill>
              <a:latin typeface="Candara"/>
            </a:endParaRPr>
          </a:p>
          <a:p>
            <a:pPr lvl="1" marL="577800" indent="-29520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ndara"/>
            </a:endParaRPr>
          </a:p>
          <a:p>
            <a:pPr lvl="1" marL="577800" indent="-29520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1T02:45:57Z</dcterms:created>
  <dc:creator>Kimberlee Gautier</dc:creator>
  <dc:description/>
  <dc:language>en-US</dc:language>
  <cp:lastModifiedBy>Kimberlee Gautier</cp:lastModifiedBy>
  <dcterms:modified xsi:type="dcterms:W3CDTF">2011-12-07T01:36:29Z</dcterms:modified>
  <cp:revision>23</cp:revision>
  <dc:subject/>
  <dc:title>Driver’s Education</dc:title>
</cp:coreProperties>
</file>